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33264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2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3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4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5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6" marL="332640" indent="-332640">
              <a:spcBef>
                <a:spcPts val="4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787320" y="1270080"/>
            <a:ext cx="88394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 pueblo de Dios es el pueblo que Dios acompañ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 pueblo de Dios son los que oran a Dios y él los escuch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 pueblo de Dios es maravilloso porque DIOS es maravillos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soy parte del pueblo de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11360" y="1270080"/>
            <a:ext cx="899136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ú eres parte del pueblo de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está contig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hace milagros por ti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soy un hijo de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11360" y="1270080"/>
            <a:ext cx="861048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 iglesia es linda porque Dios está allí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está en tu casa y en tu iglesi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hace milagros en tu casa y en tu iglesi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i iglesia es parte del pueblo de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080" y="4025520"/>
            <a:ext cx="937260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La Iglesia más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linda del mund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87320" y="660240"/>
            <a:ext cx="8686800" cy="8483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y vamos a hablar de la iglesi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iglesia no es un lugar a donde vamos, sino que es un grupo de gente que ama a Dios como nosotros lo amam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rendemos a querer a las personas en la iglesia porque somos como una familia. Adoramos a Dios junt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odos somos hijos de Dios y en la iglesia somos como herman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87320" y="609120"/>
            <a:ext cx="8839440" cy="845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 el libro de Josué, capítulo 2, se encuentra la historia de cuando el pueblo, o la iglesia de Dios en aquellos días, iba a derrumbar las murallas de Jericó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viaron a unos jóvenes para que vieran cómo era el lug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ando estaban allí, los soldados de Jericó se enteraro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ero estos jóvenes no tuvieron mie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11360" y="838080"/>
            <a:ext cx="8991360" cy="8088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a joven llamada Rahab los protegió y los escondió en su cas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a noche Rahab habló con los amigos de Josué y les dijo que la gente de Jericó tenían miedo del pueblo de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 esos días habían muchas guerras y muchas personas sufría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ero los hijos de Dios no tuvieron mie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86960" y="583920"/>
            <a:ext cx="8915400" cy="855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hab le dijo a los amigos de Josué que su gente les tenía miedo porque habían oído lo que Dios había hecho para ayudarlos ant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gente de Jericó tenía miedo de Josué y el pueblo de Dios por los milagros que Dios hacía para ayudarl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 pueblo de Dios era como la gente buena que conocemos en la Iglesi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 no tenían mie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11360" y="1270080"/>
            <a:ext cx="91440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los eran un pueblo especi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an la iglesia de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an el pueblo de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¿Por qué eran especi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¿Por qué eran el pueblo de Dio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11360" y="533520"/>
            <a:ext cx="8991360" cy="861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 eran el pueblo de Dios por lo que hacía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 eran el pueblo de Dios por lo que tenía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 eran el pueblo de Dios por lo que sabía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¿Por qué eran especi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¿Por qué eran el pueblo de Dio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11360" y="1270080"/>
            <a:ext cx="91440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an el pueblo de Dios porque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estaba con ell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ff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os hacía milagros con ell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4201"/>
              </a:spcBef>
              <a:buClr>
                <a:srgbClr val="ffff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¡El pueblo de Dios es el que está cerca de él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6:08:29Z</dcterms:created>
  <dc:creator/>
  <dc:description/>
  <dc:language>en-US</dc:language>
  <cp:lastModifiedBy>Freddy Fernandez</cp:lastModifiedBy>
  <dcterms:modified xsi:type="dcterms:W3CDTF">2013-02-28T16:05:00Z</dcterms:modified>
  <cp:revision>12</cp:revision>
  <dc:subject/>
  <dc:title>La Iglesia mas linda del mundo</dc:title>
</cp:coreProperties>
</file>